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770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0AB-F142-4319-BCC0-0E638A2F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CC8-0D42-4E57-A9E7-410A81A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5B6-EE1B-4EFA-A9D8-8A0D1BF7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BC8-1951-4E25-8AEF-43DF612D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E95-1D3B-41A8-AE27-AEFDA6E8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E66-C21B-4DE6-B1E6-B9951E09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2C8-1290-4EC9-85AC-2B5ABB8B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42C-3FFE-46E3-813C-E47A48F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B5F-99B8-4BDF-996E-2A716C0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DBC-2B4E-447C-8D19-5D7319E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380-D063-4DEB-B6B1-FCE6C4D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9D7-5E95-4C99-B38C-4414079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D13-91CF-4436-81AA-BC129B04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nkerToy"/>
              </a:rPr>
              <a:t>Dangoswch llinell syth gyda graddiant positif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nkerToy"/>
              </a:rPr>
              <a:t>Dangoswch llinell syth gyda graddiant negatif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Dangoswch ax</a:t>
            </a:r>
            <a:r>
              <a:rPr b="0" lang="en-GB" sz="10600" spc="-1" strike="noStrike" baseline="30000">
                <a:solidFill>
                  <a:srgbClr val="000000"/>
                </a:solidFill>
                <a:latin typeface="TinkerToy"/>
              </a:rPr>
              <a:t>2</a:t>
            </a: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 + bx + c   ble mae a yn bositi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Dangoswch ax</a:t>
            </a:r>
            <a:r>
              <a:rPr b="0" lang="en-GB" sz="10600" spc="-1" strike="noStrike" baseline="30000">
                <a:solidFill>
                  <a:srgbClr val="000000"/>
                </a:solidFill>
                <a:latin typeface="TinkerToy"/>
              </a:rPr>
              <a:t>2</a:t>
            </a: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 + bx + c   ble mae a yn negati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nkerToy"/>
              </a:rPr>
              <a:t>Brasluniwch y canlynol:</a:t>
            </a:r>
            <a:r>
              <a:rPr b="0" lang="en-GB" sz="7200" spc="-1" strike="noStrike">
                <a:solidFill>
                  <a:srgbClr val="000000"/>
                </a:solidFill>
                <a:latin typeface="TinkerToy"/>
              </a:rPr>
              <a:t>                Mae gan y gromlin yma a llinell syth gyda graddiant positif 2 man cyfarf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nkerToy"/>
              </a:rPr>
              <a:t>Brasluniwch y canlynol:</a:t>
            </a:r>
            <a:r>
              <a:rPr b="0" lang="en-GB" sz="7200" spc="-1" strike="noStrike">
                <a:solidFill>
                  <a:srgbClr val="000000"/>
                </a:solidFill>
                <a:latin typeface="TinkerToy"/>
              </a:rPr>
              <a:t>                Mae gan y gromlin yma a llinell syth gyda graddiant positif un man cyfarfod yn uni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nkerToy"/>
              </a:rPr>
              <a:t>Brasluniwch y canlynol:</a:t>
            </a:r>
            <a:r>
              <a:rPr b="0" lang="en-GB" sz="7200" spc="-1" strike="noStrike">
                <a:solidFill>
                  <a:srgbClr val="000000"/>
                </a:solidFill>
                <a:latin typeface="TinkerToy"/>
              </a:rPr>
              <a:t>                Nid oes gan y gromlin yma a llinell syth gyda graddiant positif yr un man cyfarf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0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nkerToy"/>
              </a:rPr>
              <a:t>Darganfyddwch nifer y pwyntiau croesdorri, os oes yna o gwbl, y linell    y = 7x + 5 a’r                gromlin y = x</a:t>
            </a:r>
            <a:r>
              <a:rPr b="0" lang="en-GB" sz="4800" spc="-1" strike="noStrike" baseline="30000">
                <a:solidFill>
                  <a:srgbClr val="000000"/>
                </a:solidFill>
                <a:latin typeface="TinkerToy"/>
              </a:rPr>
              <a:t>2</a:t>
            </a:r>
            <a:r>
              <a:rPr b="0" lang="en-GB" sz="4800" spc="-1" strike="noStrike">
                <a:solidFill>
                  <a:srgbClr val="000000"/>
                </a:solidFill>
                <a:latin typeface="TinkerToy"/>
              </a:rPr>
              <a:t> + 4x -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nkerToy"/>
              </a:rPr>
              <a:t>Os oes pwyntiau croesdorri, darganfyddwch cyfesurynnau’r pwynt/pwyntiau y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01:30Z</dcterms:created>
  <dc:creator>Betsan Wyn Thomas</dc:creator>
  <dc:description/>
  <dc:language>en-US</dc:language>
  <cp:lastModifiedBy>Betsan Wyn Thomas</cp:lastModifiedBy>
  <dcterms:modified xsi:type="dcterms:W3CDTF">2008-11-06T12:23:32Z</dcterms:modified>
  <cp:revision>3</cp:revision>
  <dc:subject/>
  <dc:title>Slide 1</dc:title>
</cp:coreProperties>
</file>